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EE4-4E64-4628-9422-1EE20D6C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899-3076-47A1-8363-06BEB48F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F57-3BF6-41E4-A9F9-6661BA19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D30-19B1-444E-9B91-8D79D3E7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3AC3-5D7A-4757-B038-5E74AA74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97D9-806B-44DB-9571-5601CFA9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310A-580A-4E58-8453-78C2BE7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EEB3-2626-4D3A-98FB-4A0089CF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D854-A85D-41DE-9A04-8724B6AC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233A-E7BE-4438-B063-9C5655FE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8100-46FC-44BF-9D23-505DFC7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53F-13BD-4038-8481-D4EE651B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F426-102D-4B8A-8626-BC33F735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687C-721C-4979-A295-E7784B43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DA19-5E92-439A-8C16-21C1D2C2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8283-E140-4705-AE76-A1916C6F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B775-6590-46DD-A588-1618CFFD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AA82-364E-4695-BB46-CBD9D54A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C719-94AF-4F85-9C9C-399C0729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8D01B-D802-4894-90A1-22866711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2B355-E355-4F54-8FAE-822A1594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648D-99AF-4F6E-A3EE-C9F479F5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052-356A-4096-8BCD-1BAA28E2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63D1-E3CC-442F-8B8D-EB96C0CD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5122-F1F1-4602-A5D5-5F9FEEBE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6D50-EBD1-4111-950A-4701FE9A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D0AE-00C5-47CB-AE4B-E94C7AA8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EDBF-5F0B-4860-A608-F314B906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7472-5183-4ABC-82B4-0BE596C1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5825F-8DDE-467D-8D28-9BF42CF2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0E03-7F11-4074-8716-781BA6FF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D2D9E-949C-4129-8C2C-754CA7E6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2676-2030-419A-BA7C-EDCEBB96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199-0470-4586-B990-C3CF646F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B0289-BE85-4F61-9901-4CDBBB73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2C7E-0141-4085-A996-4A6E27A5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8116-C39C-4AA2-80CF-26E2CBA6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8161-9D7B-4D6F-BBF3-E3ACDFB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DD99-FC76-4AA5-B064-6319F50B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846F-250B-4144-849B-47C65E9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C192-B750-4C54-826C-44E9B3B3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328A-EE48-4542-9EBB-DA7CD4DA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3B89-5FE9-4E7C-BC66-006CF2DE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1197-B4A4-4AED-814A-2C1DD817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5D1-A8D5-4BDF-8EF5-5FC6AA56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FCCA-E26F-4C94-9B14-A241EA0B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6269-83BF-4B5D-91A6-3FE67B3D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1BB5-EB46-4686-9956-B27E4B5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A7E4-2A1C-4712-A4F0-102DFFC0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02E01-A7D7-40B6-AF35-117FC71A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6F65-C43D-4AB4-B3F4-4491800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756D9-7794-4EED-892F-5AB2588F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02DC-1C30-4124-9D59-1459EFA3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6D99-90DC-4EC4-92D4-95D09C76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172C-349E-495C-9846-6D3BDE4D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952-57E8-45B0-AF36-7BF2F38B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519FA-B75A-4DA5-BBF5-3F3CC111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6E46-C778-472E-9773-B74D8269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CE869-5E10-4474-A33D-7BD66E6C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04CC-C9B8-4D22-BE45-FA5260C9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7C192-B745-442F-A376-E19B47E4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9F350-E85D-437C-9A1F-C0874ED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EDD3A-87BC-4639-911A-34FDA45B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08EF5-9399-4305-8A82-7C118D7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8E3E-B3A2-435C-8112-1E32F13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5622-7E49-4457-9FA2-2BB96AFA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A49-30F6-4D5D-8E05-7108915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51CD3-6803-435C-8CD9-D594895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2712D-4176-4910-B0DE-3ED32738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BFE42-C1E1-4D27-B043-8567A053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897BC-3FB9-43DC-9084-780B5CCF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45AB2-0568-46C0-AB30-7F3553D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CDDE-96C8-4CDC-A881-CA18066D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93A6D-AD58-4A83-8638-F234156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3D028-204A-42E3-8BE7-ED97B35B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38B2D-5864-47C9-9367-DD1DC888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FE8B-87BA-4DA6-BAC0-ABE9D66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0A4-40E4-4F97-B8B7-C174D478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0F1AE-0493-4B9C-815E-F174D03E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9A478-A829-435B-8B4F-CE56F220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0EA26-3231-496B-B9F9-AD2DB004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62534-1EA9-4153-9EAD-EA244DD6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3BBDF-E562-4584-99A7-6B5684B2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E6C-3BCC-4ACF-83DD-B8B56832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F19-4325-417C-869B-C71D1218ABE0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2BF-6110-4997-85AF-60DCA5DFC0B3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199A-6D34-4EA5-943F-3553A2A94C91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30CB-D1C7-44DF-B408-F4D3961673A2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1BC0-A82D-4967-A29C-E5222580DF9D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34A-CBF3-44A4-9FF1-959E5B91A44B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99F3-9087-4030-B434-A34B25612398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9B75-169B-4929-BD97-EE45F7C0A018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EE7B-361C-49D9-8D76-EF53A8BCA5C8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9623-E768-4E39-87F4-A324E51FC2C8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2CD5-2E81-483A-817C-BB9845F83FEC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9411-374D-458B-87A9-88923B8DCCC5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5D0-0950-4A2C-8358-30046001DE9A}" type="datetime">
              <a:rPr b="0" lang="en-US" sz="1100" spc="-1" strike="noStrike">
                <a:solidFill>
                  <a:srgbClr val="c6bc9c"/>
                </a:solidFill>
                <a:latin typeface="Garamond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65BE-9C4E-4611-B794-9CDE48E09763}" type="slidenum">
              <a:rPr b="1" lang="en-US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3048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MUSTAFA KEMAL ATATÜRK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Apple Casual"/>
                <a:ea typeface="Apple Casual"/>
              </a:rPr>
              <a:t>Ege Özgüroğlu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H</a:t>
            </a: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S L</a:t>
            </a: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F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9650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Atatürk was born in Thessaloniki on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pple Casu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 of May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188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and died in İstanbul, Dolmabahe Palace on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pple Casu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 of November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 193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96501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His mother was Zübeyde Hanım and his father was named Ali Riza Efendi. Only one of Atatürk's siblings, a sister named Makbule survived childhood; she died in 1956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4" descr="Selanik-Ataturk-Evi"/>
          <p:cNvPicPr/>
          <p:nvPr/>
        </p:nvPicPr>
        <p:blipFill>
          <a:blip r:embed="rId1"/>
          <a:stretch/>
        </p:blipFill>
        <p:spPr>
          <a:xfrm rot="259200">
            <a:off x="7121520" y="4178160"/>
            <a:ext cx="1793880" cy="21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pple Casual"/>
              </a:rPr>
              <a:t>Mustafa Kemal Atatürk was an Ottoman and Turkish army officer, revolutionary statesman, writer, and the first President of Turkey. He is the founder of the Republic of Turk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7" name="Picture 4" descr="kemal_ataturk_civ340"/>
          <p:cNvPicPr/>
          <p:nvPr/>
        </p:nvPicPr>
        <p:blipFill>
          <a:blip r:embed="rId1"/>
          <a:stretch/>
        </p:blipFill>
        <p:spPr>
          <a:xfrm>
            <a:off x="6156360" y="3892680"/>
            <a:ext cx="161604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F HE WAS’NT </a:t>
            </a: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would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n’t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Latin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lphabet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men wouldn’t go to school and go outsid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wouldn’t be a republic of Turk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0" name="Picture 4" descr="200px-Ataturk-September_20,_1928"/>
          <p:cNvPicPr/>
          <p:nvPr/>
        </p:nvPicPr>
        <p:blipFill>
          <a:blip r:embed="rId1"/>
          <a:stretch/>
        </p:blipFill>
        <p:spPr>
          <a:xfrm>
            <a:off x="6324480" y="3081240"/>
            <a:ext cx="190512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WHAT HE L</a:t>
            </a:r>
            <a:r>
              <a:rPr b="0" lang="tr-TR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pple Casual"/>
                <a:ea typeface="Apple Casual"/>
              </a:rPr>
              <a:t>KED…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10168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atürk liked to swim, to read, to dance, listening music and riding hors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168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 knew French and Germa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16899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 had a dog called Fox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5581800" y="3540240"/>
            <a:ext cx="2197080" cy="152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5" name="Picture 10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68944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181160" y="133308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Now he is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his grave at Ankara, 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call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pple Casual"/>
              </a:rPr>
              <a:t>Anıtkabi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1917720" y="2990880"/>
            <a:ext cx="4927680" cy="328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2:03:18Z</dcterms:created>
  <dc:creator>MUSTAFA OZGUROGLU</dc:creator>
  <dc:description/>
  <dc:language>en-US</dc:language>
  <cp:lastModifiedBy>sys</cp:lastModifiedBy>
  <dcterms:modified xsi:type="dcterms:W3CDTF">2012-01-19T14:30:07Z</dcterms:modified>
  <cp:revision>7</cp:revision>
  <dc:subject/>
  <dc:title>Mustafa Kemal ATatürk</dc:title>
</cp:coreProperties>
</file>